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5ADA-036E-4DB0-9BC1-54AC0D10B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E1C2-CC33-4AF1-A809-C271B9960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804C-5036-429E-A45E-E2784E76D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9D24-B7C4-481B-8B02-0F9ED5D3D1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18D2-1825-4D16-8BF9-B0BA0DCBC4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5A574-F4BD-4C94-8775-77D03E94C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122C1-5EAD-4D40-AC7A-A6BEB3336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65F3E-E8B0-418F-BD7A-8014309C3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FE4FD-D0BD-44F3-B543-701E2E23D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D6025-CBB7-4CD3-A26E-7AF18EBD1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DF82-44C2-468C-8D00-ED11E0680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D5A2F-5AAA-4511-9D71-0DB5F68D2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.3-</a:t>
            </a:r>
            <a:fld id="{FB8A4AFE-550D-48A1-8655-2B107B0CE58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2560" y="1622520"/>
            <a:ext cx="792792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146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t perfect subjuncti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pretérito perfecto de subjuntiv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like the present perfect indicative, is used to talk about 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s happen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 present perfect subjunctive is formed using the present subjunctive of the auxiliary verb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st partici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6560" y="1581120"/>
            <a:ext cx="1676520" cy="5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194C-59E9-4F60-970B-662A617A43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565280"/>
            <a:ext cx="8229600" cy="1322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016080"/>
            <a:ext cx="8229600" cy="33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9597-C9F3-4011-BA81-9DF5319527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conditions which trigger the use of the present subjunctive apply to the pres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 subjun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8229600" cy="164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860E6-A7A7-44C0-9833-158C4EC140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¡ATENCIÓ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anish the present perfect subjunctive is used to express a recent 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creo que l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y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ch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e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on’t think you said it right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pero que é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y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lega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hope he arriv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50F54-4281-46FA-9387-DE32902ACA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ion expressed by the present perfect subjunctive is seen as occurring before the action expressed in the main cl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070080"/>
            <a:ext cx="8229600" cy="135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9F7C6-28C4-48EC-B7DC-F913707126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6360" y="2157480"/>
          <a:ext cx="8458200" cy="344808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102420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 el pretérito perfecto de subjuntivo de los verbos entre paréntes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244044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gusta que ustedes _______________ (decir) la verda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reo que tú _______________ (comer) tant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imposible que usted _______________ (poder) hacer tal (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 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cos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alegro de que tú y yo _______________ (merendar) junta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posible que yo _______________ (adelgazar) un poco esta seman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ro que _______________ (haber) suficiente comida en la celebració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03360" y="32716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ff"/>
                </a:solidFill>
                <a:latin typeface="Comic Sans MS"/>
              </a:rPr>
              <a:t>hayan di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53C4-9078-458A-B8E1-5EB22C6F81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awagner</cp:lastModifiedBy>
  <dcterms:modified xsi:type="dcterms:W3CDTF">2007-03-29T17:55:53Z</dcterms:modified>
  <cp:revision>76</cp:revision>
  <dc:subject/>
  <dc:title>PowerPoint Presentation</dc:title>
</cp:coreProperties>
</file>